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D8FAE-DE30-4D51-A08A-8C6DCBE63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6B5E9-4966-4CF5-863A-E817C69D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0B88D-51F1-49B3-A658-9391577BD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29945-D3A3-4B21-93CB-53CA2C9BD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77DF8-04CE-4C08-94FD-B7422FD4F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77D47-4B09-4CB4-A320-3437DFC28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0C2B0-02D9-469F-AD2E-055BBDBAD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B9257-6A31-4F11-9131-BEBF1AD8B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44386-FF44-4E94-BF28-3B39B5F8F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11C62-294B-4B8E-A6CE-46A416123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7FB89-B63B-46A7-B1E1-105B34D94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47675-5309-4492-8A94-4E4A22E5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0A8C4-16FB-4A0E-BE3E-88226B58C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0B863-4D97-415E-99C0-BCF672624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E6D67-9C58-459E-AA68-CF8EDB0AC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09C7C-D27C-480F-8D74-54C71E179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1DDF6-E9F4-44D2-9617-23D9B4121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5637-EB9F-4016-8F19-256B94C37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E5B6-82EF-4C5C-922D-796AC2665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6B71-801F-45FB-A76C-F71F19F6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85DBE-BFD6-4FAA-A75E-3B9FA3F0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0AE7-55D1-477B-B2B5-53808E1E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D019-52D8-4696-8498-4268D3C91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960A9-8309-4F65-B6AD-E79C15855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A9C4-1A13-46BE-9EC1-29EAA0AA848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7D8B-D020-4CC2-8D15-1876B57F61D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76320">
            <a:solidFill>
              <a:srgbClr val="ffffff"/>
            </a:solidFill>
            <a:miter/>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99"/>
                </a:solidFill>
                <a:latin typeface="Cooper Black"/>
              </a:rPr>
              <a:t>Runners to Your Marks!</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Cooper Black"/>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Conclus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My hypothesis was correct! I took the average of the girls’ results and got 1:5875 minutes. Then I took the average of the boys’ results and got 1:35 minutes. The boys ran faster than the girls. Some possible causes of error were that some people might not have been feeling their best the day that they ran, some could have cheated, and the finish line might not have been in the same place all of the time. I observed that the boys all wanted to run the fastest. The girls just wanted to run and did it because I asked them to. Other girls were commpetitive and wanted to be the fastest.</a:t>
            </a:r>
            <a:endParaRPr b="0" lang="en-US" sz="24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Problem</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Who can run faster at long distance; boys or girls?</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Introduc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I’ve always thought that boys could run faster than girls, but can they run faster when they are running at a longer distance?</a:t>
            </a:r>
            <a:endParaRPr b="0" lang="en-US" sz="32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Hypothesi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I predict that the boys will run faster than the girls because they have more metabolism and they are usually stronger. They also seem more competitive than girls.</a:t>
            </a:r>
            <a:endParaRPr b="0" lang="en-US" sz="32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Material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Boys and girl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Stopwatch</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Meter stick</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Paper</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Pencil</a:t>
            </a:r>
            <a:endParaRPr b="0" lang="en-US" sz="32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Procedure</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Independent Variable- gender</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Dependent Variable- results</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Controlled Variable- Four 8th grade boys and girls, using the same softball field, and letting them run the best that they can.</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Gather all materials.</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Make the people run around the outside of the softball field one at a time.</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Time them until they cross the finish line.</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Record their time.</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Make observations.</a:t>
            </a:r>
            <a:endParaRPr b="0" lang="en-US" sz="24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Girls Result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Aubree Nuest- 1.29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Caylee Ames- 1.42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Rachel Carter- 1.58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Victoria McManus- 2.06 minut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Boys Results</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Michael Hendricks: 1.30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Kash Farney: 1.32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Trae Jones: 1.37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Luke Schweizer: 1.41 minutes</a:t>
            </a:r>
            <a:endParaRPr b="0" lang="en-US" sz="3200" spc="-1" strike="noStrike">
              <a:solidFill>
                <a:srgbClr val="ffffff"/>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Graph</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132" name=""/>
          <p:cNvGraphicFramePr/>
          <p:nvPr/>
        </p:nvGraphicFramePr>
        <p:xfrm>
          <a:off x="2743200" y="1600200"/>
          <a:ext cx="3429000" cy="4495680"/>
        </p:xfrm>
        <a:graphic>
          <a:graphicData uri="http://schemas.openxmlformats.org/presentationml/2006/ole">
            <p:oleObj progId="Excel.Sheet.12" r:id="rId2" spid="">
              <p:embed/>
              <p:pic>
                <p:nvPicPr>
                  <p:cNvPr id="133" name="" descr=""/>
                  <p:cNvPicPr/>
                  <p:nvPr/>
                </p:nvPicPr>
                <p:blipFill>
                  <a:blip r:embed="rId3"/>
                  <a:stretch/>
                </p:blipFill>
                <p:spPr>
                  <a:xfrm>
                    <a:off x="2743200" y="1600200"/>
                    <a:ext cx="3429000" cy="4495680"/>
                  </a:xfrm>
                  <a:prstGeom prst="rect">
                    <a:avLst/>
                  </a:prstGeom>
                  <a:ln w="0">
                    <a:noFill/>
                  </a:ln>
                </p:spPr>
              </p:pic>
            </p:oleObj>
          </a:graphicData>
        </a:graphic>
      </p:graphicFrame>
      <p:graphicFrame>
        <p:nvGraphicFramePr>
          <p:cNvPr id="134" name=""/>
          <p:cNvGraphicFramePr/>
          <p:nvPr/>
        </p:nvGraphicFramePr>
        <p:xfrm>
          <a:off x="2743200" y="1523880"/>
          <a:ext cx="3429000" cy="4572000"/>
        </p:xfrm>
        <a:graphic>
          <a:graphicData uri="http://schemas.openxmlformats.org/presentationml/2006/ole">
            <p:oleObj progId="Excel.Sheet.12" r:id="rId4" spid="">
              <p:embed/>
              <p:pic>
                <p:nvPicPr>
                  <p:cNvPr id="135" name="" descr=""/>
                  <p:cNvPicPr/>
                  <p:nvPr/>
                </p:nvPicPr>
                <p:blipFill>
                  <a:blip r:embed="rId5"/>
                  <a:stretch/>
                </p:blipFill>
                <p:spPr>
                  <a:xfrm>
                    <a:off x="2743200" y="1523880"/>
                    <a:ext cx="3429000" cy="457200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03:48Z</dcterms:created>
  <dc:creator>USD376</dc:creator>
  <dc:description/>
  <dc:language>en-US</dc:language>
  <cp:lastModifiedBy>STERLING  USD376</cp:lastModifiedBy>
  <dcterms:modified xsi:type="dcterms:W3CDTF">2010-02-03T15:54:47Z</dcterms:modified>
  <cp:revision>10</cp:revision>
  <dc:subject/>
  <dc:title>Science Fair</dc:title>
</cp:coreProperties>
</file>